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lick to move the slid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CF74-2963-470C-B9B2-3F7881CA3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5114-673A-4DE6-82FD-216140C54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ware specifications usually mean the software will run but might not result in an optimal user experience. When preparing to run Windows 7, i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best to exceed the processor, RAM, and hard disk space requirements, if possi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DD2D-C8B9-44A2-ADB5-CA00EDC76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3463-D216-4CC1-9D7F-70C586435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1A85-E4B6-481D-A2F3-3AC68D4E9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5F80-D54D-45DF-8C90-CDB00BD91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60A9-AD9E-4FD3-8E72-D4F4AFB70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1223-C0DD-4B3F-9281-E951D90A7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B9B0-8BAC-4291-9612-9F1FD55B9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1D50-0930-4044-9EAF-38C69C3A4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7684-9B81-49AD-96AA-176D345F3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B3CB-3135-4C83-B20B-471C37F6F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E520-44B1-42D8-8A61-F7958B382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FD3F-250A-4D52-BA06-BE2963CF9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6576-50F4-471A-9CA7-52A78606D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677B-8DD4-4D5B-A68A-FD9B0EB5B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220E-A566-4A01-87A7-1E64F89FD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9A87-9F81-460B-A4AF-79277581A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B917-EE11-464B-9499-BEF1C4726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730F-0382-440A-B900-9E9E72529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22EF-AFD4-4DE5-A4AA-E8C4195F1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AB3B-7C2F-4BAA-A922-A0CFA6E10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054E-3594-4CAF-832F-F9470A2FE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larger environment, where you have, say, 25 or more computers that require Windows 7 installations, you could use a tool called ImageX to create bootable media. The Windows Automated Installation Kit (AIK) includes Image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35D8-4CA4-4506-A3D2-21AA79AC6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 Deployment Services is a server role for Windows Server 2008 or Windows Server 2008 R2. It allows a user to press the F12 key, log on, and select an image for installation. After that, the installation can be autom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you can use an answer file to configure Windows settings during installation. The answer file contains all the settings that are required for an unattended install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AE49-8674-4580-9710-9CFA73FC2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37F6-C31E-4B9B-918B-6054D41B3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EDB9-BDB0-486B-A0FF-3F4EAE574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579B-8DA6-48D6-B812-B338B8406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7E5F-D33D-4DD2-973C-585B3CFF0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A14C-AF2A-4600-A75F-206BE1BDB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E76A-9C2F-4EDA-9554-C40211FA0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FC73-509D-4F09-B9D5-060AFC7D2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4F48-54E4-463E-8F7F-360EF4C80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0013-8DB4-4259-860F-45E9CCD0F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517A-8798-4C2B-B330-0DB4E8B25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E2DF-1DE5-4959-9317-FABBA68EC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6343-C328-4D02-8C2A-F9E58796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748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263-A95B-4FAF-90D4-BF20FA70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748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748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FBBA-F44C-4556-9A49-D0405552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748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748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7484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11A6-8510-4761-84AC-602FE096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6C92-589F-4F35-A4F4-72F588EB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0DB0-DE6B-44A1-8105-5751FAD8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285-1D94-4143-8BC0-D2FF0586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5EC3-2DF6-4BB4-94B0-486B0F2A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2F91-35D7-4B64-8E51-0401D259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48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0F4-C0A3-437D-BCEC-DD5F33BD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7484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5E5-E477-4D7A-A7D9-AD6FC563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7484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AAFA-638F-41E0-A2B6-BF4CF189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cd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33440"/>
            <a:ext cx="8315280" cy="6040440"/>
            <a:chOff x="414360" y="433440"/>
            <a:chExt cx="8315280" cy="604044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33440"/>
              <a:ext cx="8315280" cy="604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5760" y="473040"/>
              <a:ext cx="8232480" cy="59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Straight Connector 7"/>
          <p:cNvSpPr/>
          <p:nvPr/>
        </p:nvSpPr>
        <p:spPr>
          <a:xfrm>
            <a:off x="533520" y="1447920"/>
            <a:ext cx="8076960" cy="14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723DF-27B9-496C-86F4-6A1A9799A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microsoft.com/download/en/details.aspx?id=2394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ounded Rectangle 6"/>
          <p:cNvSpPr/>
          <p:nvPr/>
        </p:nvSpPr>
        <p:spPr>
          <a:xfrm>
            <a:off x="304920" y="1452600"/>
            <a:ext cx="8532720" cy="304308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Rounded Rectangle 8"/>
          <p:cNvGrpSpPr/>
          <p:nvPr/>
        </p:nvGrpSpPr>
        <p:grpSpPr>
          <a:xfrm>
            <a:off x="414360" y="1523880"/>
            <a:ext cx="8315280" cy="2895840"/>
            <a:chOff x="414360" y="1523880"/>
            <a:chExt cx="8315280" cy="2895840"/>
          </a:xfrm>
        </p:grpSpPr>
        <p:pic>
          <p:nvPicPr>
            <p:cNvPr id="55" name="Rounded Rectangle 8" descr=""/>
            <p:cNvPicPr/>
            <p:nvPr/>
          </p:nvPicPr>
          <p:blipFill>
            <a:blip r:embed="rId1"/>
            <a:stretch/>
          </p:blipFill>
          <p:spPr>
            <a:xfrm>
              <a:off x="414360" y="1523880"/>
              <a:ext cx="831528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36680" y="1546200"/>
              <a:ext cx="8270640" cy="28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225520"/>
            <a:ext cx="8534520" cy="89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Franklin Gothic Medium"/>
              </a:rPr>
              <a:t>Introducing, Installing, and</a:t>
            </a:r>
            <a:br>
              <a:rPr sz="3400"/>
            </a:br>
            <a:r>
              <a:rPr b="0" lang="en-US" sz="3400" spc="-1" strike="noStrike">
                <a:solidFill>
                  <a:srgbClr val="0000cc"/>
                </a:solidFill>
                <a:latin typeface="Franklin Gothic Medium"/>
              </a:rPr>
              <a:t>Upgrading Windows 7</a:t>
            </a:r>
            <a:endParaRPr b="0" lang="en-US" sz="34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3124080"/>
            <a:ext cx="8183520" cy="106704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rm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Lesson 1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32-bit and 64-bit Computing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533520" y="1747800"/>
            <a:ext cx="7995960" cy="4043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2219400" y="3746520"/>
            <a:ext cx="2886120" cy="306360"/>
          </a:xfrm>
          <a:prstGeom prst="rect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7 System Requirement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 gigahertz (GHz) or faster 32-bit (x86) or 64-bit (x64) processo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 gigabyte (GB) RAM (32-bit) or 2 GB RAM (64-bit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6 GB available hard disk space (32-bit) or 20 GB (64-bit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DirectX 9 graphics device with Windows Display Driver Model (WDDM) 1.0 or higher driv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7 System “Nice-to-Haves”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nternet acces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dditional memory and advanced graphics hardware for video playback, depending on the resolution required or desired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 graphics card compatible with DirectX 10 or higher for certain games and program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 TV tuner and additional hardware for some Windows Media Center functionalit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7 System “Nice-to-Haves”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pecific hardware for Windows Touch and Tablet PC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 network and PCs running Windows 7 for HomeGroup utiliza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 compatible optical drive to burn DVDs/CD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rusted Platform Module (TPM) 1.2 for BitLock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7 System “Nice-to-Haves”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 universal serial bus (USB) flash drive for BitLocker To Go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n additional 1 GB of RAM and an additional 15 GB of available hard disk space for Windows XP Mod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udio output for music and sound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Upgrade Path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Upgrade path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is set of options for upgrading from one Windows operating system to anoth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Upgrade installation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retains files, settings, and program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Also called an </a:t>
            </a:r>
            <a:r>
              <a:rPr b="1" i="1" lang="en-US" sz="3000" spc="-1" strike="noStrike">
                <a:solidFill>
                  <a:srgbClr val="000000"/>
                </a:solidFill>
                <a:latin typeface="Franklin Gothic Book"/>
              </a:rPr>
              <a:t>in-place installation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Custom installation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overwrites files, settings, and program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Also called a </a:t>
            </a:r>
            <a:r>
              <a:rPr b="1" i="1" lang="en-US" sz="3000" spc="-1" strike="noStrike">
                <a:solidFill>
                  <a:srgbClr val="000000"/>
                </a:solidFill>
                <a:latin typeface="Franklin Gothic Book"/>
              </a:rPr>
              <a:t>clean installation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7 Upgrade Paths for Home Premium, Professional, and Ultimat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914400" y="1752480"/>
          <a:ext cx="7238880" cy="4419720"/>
        </p:xfrm>
        <a:graphic>
          <a:graphicData uri="http://schemas.openxmlformats.org/drawingml/2006/table">
            <a:tbl>
              <a:tblPr/>
              <a:tblGrid>
                <a:gridCol w="1835280"/>
                <a:gridCol w="1776240"/>
                <a:gridCol w="1773360"/>
                <a:gridCol w="1854000"/>
              </a:tblGrid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Upgrading F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o Home Prem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o Profess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o Ulti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8304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X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us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us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us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Vista Home Ba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p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us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p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Vista Home Prem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p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us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p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Vista Bus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us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p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p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79596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Vista Ulti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us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us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pg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Upgrade Path from Windows XP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ustom installa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ack up data files firs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Upgrade Paths from Windows Vista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Upgrade installation if installing an equivalent or higher edition of Windows 7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ustom installation if installing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A </a:t>
            </a:r>
            <a:r>
              <a:rPr b="0" lang="ja-JP" sz="30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lesser</a:t>
            </a:r>
            <a:r>
              <a:rPr b="0" lang="ja-JP" sz="3000" spc="-1" strike="noStrike">
                <a:solidFill>
                  <a:srgbClr val="000000"/>
                </a:solidFill>
                <a:latin typeface="Franklin Gothic Book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 version of Windows 7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A different </a:t>
            </a:r>
            <a:r>
              <a:rPr b="0" lang="ja-JP" sz="30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bit</a:t>
            </a:r>
            <a:r>
              <a:rPr b="0" lang="ja-JP" sz="3000" spc="-1" strike="noStrike">
                <a:solidFill>
                  <a:srgbClr val="000000"/>
                </a:solidFill>
                <a:latin typeface="Franklin Gothic Book"/>
              </a:rPr>
              <a:t>”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 version (32- vs. 64-bit)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A different language than the current version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Upgrade Paths from Other Operating System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Going from an old edition of Windows (Windows 95 or Windows 2000) to Windows 7 requires full version of Windows 7 and a custom installa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annot </a:t>
            </a:r>
            <a:r>
              <a:rPr b="0" lang="ja-JP" sz="32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upgrade</a:t>
            </a:r>
            <a:r>
              <a:rPr b="0" lang="ja-JP" sz="3200" spc="-1" strike="noStrike">
                <a:solidFill>
                  <a:srgbClr val="000000"/>
                </a:solidFill>
                <a:latin typeface="Franklin Gothic Book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from a non-Windows operating system such as UNIX, Linux, or Mac O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Objectiv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71680" y="1752480"/>
          <a:ext cx="8001000" cy="4191120"/>
        </p:xfrm>
        <a:graphic>
          <a:graphicData uri="http://schemas.openxmlformats.org/drawingml/2006/table">
            <a:tbl>
              <a:tblPr/>
              <a:tblGrid>
                <a:gridCol w="3146400"/>
                <a:gridCol w="3063600"/>
                <a:gridCol w="1791000"/>
              </a:tblGrid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Objective Domain Matri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echnology Sk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bjective Domain 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bjective Domain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dentifying System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dentifying System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dentifying Upgrade Paths from Windows XP, Windows Vista, and Other Operating Sys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dentifying Upgrade Paths from Windows XP, Windows Vista, and Other Operating Sys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sing Windows 7 Upgrade Advi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sing Windows 7 Upgrade Advis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dentifying Application Compat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dentifying Application Compat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nderstanding Product Identification Ke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nderstanding Product Identification Ke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nderstanding Removable Media Installations (DVD, ZTI, LTI, and US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nderstanding Removable Media Installations (DVD, ZTI, LTI, and USB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4320">
                      <a:solidFill>
                        <a:srgbClr val="2f2f98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nderstanding Cloud and Network Install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nderstanding Cloud and Network Install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.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2f2f98"/>
                      </a:solidFill>
                    </a:lnL>
                    <a:lnR w="4320">
                      <a:solidFill>
                        <a:srgbClr val="2f2f98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2f2f9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Anytime Upgrade Option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62120" y="1905120"/>
          <a:ext cx="7696080" cy="3308400"/>
        </p:xfrm>
        <a:graphic>
          <a:graphicData uri="http://schemas.openxmlformats.org/drawingml/2006/table">
            <a:tbl>
              <a:tblPr/>
              <a:tblGrid>
                <a:gridCol w="1950840"/>
                <a:gridCol w="1887480"/>
                <a:gridCol w="1886040"/>
                <a:gridCol w="1971720"/>
              </a:tblGrid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Upgrade Fr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o Home Prem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o Profess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To Ultim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74628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7 St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7 Home Prem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85428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7 Profess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Upgrade Advisor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elps you determin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If your computer can run Windows 7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Which editions and features will work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Whether your computer has any compatibility issues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Upgrade Advisor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1206360" y="1676520"/>
            <a:ext cx="671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Upgrade Advisor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62940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Application Compatibility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Operating system upgrades can result in one or more programs not working properly or not working at al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Resources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Windows 7 Compatibility Center onlin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Windows 7 Application Compatibility List for IT Professionals: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Franklin Gothic Boo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Franklin Gothic Book"/>
                <a:hlinkClick r:id="rId1"/>
              </a:rPr>
              <a:t>http://www.microsoft.com/download/en/details.aspx?id=2394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The Windows 7 Compatibility Center Web Site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09" name="Content Placeholder 2" descr=""/>
          <p:cNvPicPr/>
          <p:nvPr/>
        </p:nvPicPr>
        <p:blipFill>
          <a:blip r:embed="rId1"/>
          <a:stretch/>
        </p:blipFill>
        <p:spPr>
          <a:xfrm>
            <a:off x="1828800" y="1641600"/>
            <a:ext cx="559440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Product Identification Key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 unique, alphanumeric code required by many software programs during installa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elps avoid illegal product installation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Product key you enter during Windows 7 installation is checked by Microsoft for legitimacy and whether it is already being used on a different comput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milar to xxxxx-xxxxx-xxxxx-xxxxx-xxxxx but is composed of letters and number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Product Identification Key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Usually located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On the installation disc holder inside the Windows packag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On a sticker on the back or bottom of your computer if the operating system came pre-installed on the computer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In a confirmation e-mail if you purchased and downloaded Windows 7 onlin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Activation and Registration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Activation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verifies that a copy of Windows is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5600" indent="-2714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Genuine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05600" indent="-2714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Not in use on other computers than the number for which is licensed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Activation is required within 30 days of installa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Franklin Gothic Book"/>
              </a:rPr>
              <a:t>Registration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is optional; enables you to sign up for technical support and receive other benefits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7 Installation Type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igh Touch Installation (HTI)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Lite Touch Installation (LTI)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Zero Touch Installation (ZTI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7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indows 7 is a desktop operating system that improves on many aspects of its direct predecessors, Windows Vista and Windows XP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ncludes several new features, such as large and animated task thumbnails, homegroups, Jump Lists, libraries, and Windows XP Mod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High Touch Installation (HTI) 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May include retail media or a standard image (ISO file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Uses an installation DVD or USB drive and manual installation of operating system on every comput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Requires manual configuration of each system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High Touch Installation (HTI)—Steps for Larger Environment 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cc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nstall Windows 7 on a clean hard disk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0000cc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onfigure it with settings that apply to all computers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0000cc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Use the Sysprep utility to create an image of the installation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0000cc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Boot to the Windows Preinstallation Environment (WinPE) and use ImageX to save the image to media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0000cc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nstall image on remaining computers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Lite Touch Installation (LTI) 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Requires some human intervention in the early phase of the installation but is automated (or unattended) from that point 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orks well in environments with more than 150 computer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You need the Windows AIK, Windows Deployment Services, and the Microsoft Deployment Toolki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Zero Touch Installation (ZTI)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ully automated, </a:t>
            </a:r>
            <a:r>
              <a:rPr b="0" lang="ja-JP" sz="32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ouchless</a:t>
            </a:r>
            <a:r>
              <a:rPr b="0" lang="ja-JP" sz="3200" spc="-1" strike="noStrike">
                <a:solidFill>
                  <a:srgbClr val="000000"/>
                </a:solidFill>
                <a:latin typeface="Franklin Gothic Book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method of installing Window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Requires System Center Configuration Manager (SCCM)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Deploys and updates servers, client computers, and all kinds of devices on a network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Zero Touch Installation (ZTI)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Geared for environments with more than 500 computer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Involves a fairly steep learning curv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Requires a considerable budget compared to HTI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Easy Transfer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Helps you move files and settings from one computer running Windows to anoth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Franklin Gothic Boo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Move</a:t>
            </a:r>
            <a:r>
              <a:rPr b="0" lang="ja-JP" sz="3200" spc="-1" strike="noStrike">
                <a:solidFill>
                  <a:srgbClr val="000000"/>
                </a:solidFill>
                <a:latin typeface="Franklin Gothic Book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 can occur on the same computer if you’re upgrading to a different version of Windows that requires a custom installa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Uses a MIG file for files and setting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annot transfer programs—you need original installation media to manually install them in Windows 7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Easy Transfer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131" name="Content Placeholder 2" descr=""/>
          <p:cNvPicPr/>
          <p:nvPr/>
        </p:nvPicPr>
        <p:blipFill>
          <a:blip r:embed="rId1"/>
          <a:stretch/>
        </p:blipFill>
        <p:spPr>
          <a:xfrm>
            <a:off x="1614600" y="1647720"/>
            <a:ext cx="59148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Summary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e six main editions of Windows 7 are Starter, Home Basic, Home Premium, Professional, Ultimate, and Enterprise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Common computer architectures are 32-bit and 64-bit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Windows 7 Upgrade Advisor helps you determine if your computer can run Windows 7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Summary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e upgrade path you must take from Windows Vista to Windows 7 depends on key factors, mainly your current operating system and the edition of Windows 7 you want to run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The three main types of Windows 7 installation methods are High Touch Installation (HTI), Lite Touch Installation (LTI), and Zero Touch Installation (ZTI)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Windows Easy Transfer helps you move files and settings from one computer to another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7 Operating System Edition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indows 7 Start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indows 7 Home Basic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indows 7 Home Premium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indows 7 Professiona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indows 7 Enterpris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indows 7 Ultimat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7 Operating System Edition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Windows 7 Home Premium, Professional, and Ultimate are widely available in the retail sector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Other Windows 7 editions are designed for certain types of computers or markets, or specifically for enterprise use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Windows 7 Operating System Editions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62120" y="1676520"/>
          <a:ext cx="7772400" cy="4687920"/>
        </p:xfrm>
        <a:graphic>
          <a:graphicData uri="http://schemas.openxmlformats.org/drawingml/2006/table">
            <a:tbl>
              <a:tblPr/>
              <a:tblGrid>
                <a:gridCol w="2819160"/>
                <a:gridCol w="1752840"/>
                <a:gridCol w="1600200"/>
                <a:gridCol w="1600200"/>
              </a:tblGrid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7 Fe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Home Prem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rofess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Ultim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Aero interf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30120">
                <a:tc>
                  <a:txBody>
                    <a:bodyPr lIns="68760" rIns="68760" tIns="0" bIns="0" anchor="ctr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Media C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30120">
                <a:tc>
                  <a:txBody>
                    <a:bodyPr lIns="68760" rIns="68760" tIns="0" bIns="0" anchor="ctr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Backup and Res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Anytime Upgr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30120">
                <a:tc>
                  <a:txBody>
                    <a:bodyPr lIns="68760" rIns="68760" tIns="0" bIns="0" anchor="ctr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Back up to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30120">
                <a:tc>
                  <a:txBody>
                    <a:bodyPr lIns="68760" rIns="68760" tIns="0" bIns="0" anchor="ctr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Location-aware prin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30120">
                <a:tc>
                  <a:txBody>
                    <a:bodyPr lIns="68760" rIns="68760" tIns="0" bIns="0" anchor="ctr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Remote Desktop H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30120">
                <a:tc>
                  <a:txBody>
                    <a:bodyPr lIns="68760" rIns="68760" tIns="0" bIns="0" anchor="ctr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Encrypting File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Windows XP 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upport for joining do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26880">
                <a:tc>
                  <a:txBody>
                    <a:bodyPr lIns="68760" rIns="68760" tIns="0" bIns="0" anchor="ctr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BitLocker and AppLock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8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32-bit and 64-bit Computing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32-bit and 64-bit refer to the way a computer's central processing unit (CPU) processes data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64-bit computer can use more random access memory (RAM) than 32-bit comput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Operating systems come in 32-bit and 64-bit version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13160" indent="-27432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Must match the correct operating system to the computer processor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32-bit and 64-bit Computing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Enterprise environment with mix of 32-bit and 64-bit systems needs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Both types of drivers for networked printers, scanners, projectors, and other shared devices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51"/>
              </a:spcBef>
              <a:buClr>
                <a:srgbClr val="0000cc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Multiple images—at least one image for the 32-bit computers and one for the 64-bit computers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Franklin Gothic Medium"/>
              </a:rPr>
              <a:t>32-bit and 64-bit Computing</a:t>
            </a:r>
            <a:endParaRPr b="0" lang="en-US" sz="3200" spc="-1" strike="noStrike">
              <a:solidFill>
                <a:srgbClr val="0000cc"/>
              </a:solidFill>
              <a:latin typeface="Franklin Gothic Medium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295280" y="1697040"/>
            <a:ext cx="6743880" cy="4565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3048120" y="5573880"/>
            <a:ext cx="4813200" cy="228600"/>
          </a:xfrm>
          <a:prstGeom prst="rect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14:18Z</dcterms:created>
  <dc:creator>Cat Skintik</dc:creator>
  <dc:description/>
  <dc:language>en-US</dc:language>
  <cp:lastModifiedBy>Michael Khalil</cp:lastModifiedBy>
  <dcterms:modified xsi:type="dcterms:W3CDTF">2013-08-25T13:16:49Z</dcterms:modified>
  <cp:revision>326</cp:revision>
  <dc:subject/>
  <dc:title>Slide 1</dc:title>
</cp:coreProperties>
</file>